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27.png" ContentType="image/png"/>
  <Override PartName="/ppt/media/image30.wmf" ContentType="image/x-wmf"/>
  <Override PartName="/ppt/media/image4.png" ContentType="image/png"/>
  <Override PartName="/ppt/media/image28.png" ContentType="image/png"/>
  <Override PartName="/ppt/media/image31.wmf" ContentType="image/x-wmf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33.wmf" ContentType="image/x-wmf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34.wmf" ContentType="image/x-wmf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9.png" ContentType="image/png"/>
  <Override PartName="/ppt/media/image12.png" ContentType="image/png"/>
  <Override PartName="/ppt/media/image7.wmf" ContentType="image/x-wmf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36.png" ContentType="image/png"/>
  <Override PartName="/ppt/media/image6.png" ContentType="image/png"/>
  <Override PartName="/ppt/media/image32.wmf" ContentType="image/x-wmf"/>
  <Override PartName="/ppt/media/image2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4C34-C6BC-418C-8FF1-5C87D8123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6AA2-B19F-4BEE-BC0B-99CF50A2D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37CC-61C1-4D55-A01F-E394DB35A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77B9-8C33-4C5E-B0B3-A0EBFED40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6BEB-4E1E-4CD2-977F-21C000EB0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3934-DD46-4169-9685-9C5CC7BD1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5A65-7454-4438-8B99-22A7A1697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6F1A-FD8E-427E-B920-ACF05DB7A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1CC0-3D65-4D51-865F-69F8BB7F3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4E37-07FA-450D-9783-D45C88C4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BD3C-108F-4483-9FB2-9CC0E6A2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5C87-1242-472B-940D-CC0B52498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A51E7-EF7F-4070-9A9F-50D0AA9862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0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31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32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33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34.wmf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0.png"/><Relationship Id="rId3" Type="http://schemas.openxmlformats.org/officeDocument/2006/relationships/image" Target="../media/image52.pn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1981080"/>
            <a:ext cx="838224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ction 3.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perties of Rational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533520" y="1676520"/>
                <a:ext cx="1752480" cy="94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533520" y="3048120"/>
                <a:ext cx="274320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533520" y="4267080"/>
                <a:ext cx="281916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2838240" cy="5810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429000" y="304920"/>
            <a:ext cx="5105520" cy="5284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228600" y="998640"/>
            <a:ext cx="8686800" cy="41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1" name=""/>
          <p:cNvGraphicFramePr/>
          <p:nvPr/>
        </p:nvGraphicFramePr>
        <p:xfrm>
          <a:off x="533520" y="5410080"/>
          <a:ext cx="309240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520" y="5410080"/>
                    <a:ext cx="30924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4800600" y="1981080"/>
          <a:ext cx="1219320" cy="500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800600" y="1981080"/>
                    <a:ext cx="121932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4191120" y="3352680"/>
          <a:ext cx="2939760" cy="5000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91120" y="3352680"/>
                    <a:ext cx="29397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4102200" y="4572000"/>
          <a:ext cx="3119400" cy="5000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102200" y="4572000"/>
                    <a:ext cx="31194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4906800" y="5715000"/>
          <a:ext cx="1005120" cy="5000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906800" y="5715000"/>
                    <a:ext cx="100512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2743200" cy="540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rcRect l="0" t="0" r="43611" b="65498"/>
          <a:stretch/>
        </p:blipFill>
        <p:spPr>
          <a:xfrm>
            <a:off x="228600" y="1143000"/>
            <a:ext cx="6477120" cy="6588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rcRect l="16250" t="34530" r="0" b="7912"/>
          <a:stretch/>
        </p:blipFill>
        <p:spPr>
          <a:xfrm>
            <a:off x="304920" y="1828800"/>
            <a:ext cx="8534160" cy="974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228600" y="5029200"/>
            <a:ext cx="8915400" cy="1143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228600" y="3200400"/>
            <a:ext cx="1905120" cy="1270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2438280" y="3200400"/>
            <a:ext cx="1905120" cy="1270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7" name="" descr=""/>
          <p:cNvPicPr/>
          <p:nvPr/>
        </p:nvPicPr>
        <p:blipFill>
          <a:blip r:embed="rId7"/>
          <a:stretch/>
        </p:blipFill>
        <p:spPr>
          <a:xfrm>
            <a:off x="4724280" y="3200400"/>
            <a:ext cx="1905120" cy="1270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8"/>
          <a:stretch/>
        </p:blipFill>
        <p:spPr>
          <a:xfrm>
            <a:off x="6934320" y="3200400"/>
            <a:ext cx="1904760" cy="1270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133720" y="1447920"/>
            <a:ext cx="4724280" cy="916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OBJECTIVE 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76040" y="3048120"/>
            <a:ext cx="8587080" cy="9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2438280" cy="5796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87360" y="2284560"/>
            <a:ext cx="836784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2838240" cy="5810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066680" y="1066680"/>
            <a:ext cx="6477120" cy="5144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533520" y="1981080"/>
            <a:ext cx="7253280" cy="13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rcRect l="0" t="0" r="0" b="6462"/>
          <a:stretch/>
        </p:blipFill>
        <p:spPr>
          <a:xfrm>
            <a:off x="380880" y="304920"/>
            <a:ext cx="7772400" cy="10602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6320" y="3429000"/>
            <a:ext cx="8915400" cy="22208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1905120" y="1523880"/>
            <a:ext cx="533376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2838240" cy="5810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80880" y="990720"/>
            <a:ext cx="7848720" cy="4730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8763120" cy="15382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rcRect l="2565" t="34321" r="0" b="27954"/>
          <a:stretch/>
        </p:blipFill>
        <p:spPr>
          <a:xfrm>
            <a:off x="228600" y="5257800"/>
            <a:ext cx="8686800" cy="8380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2838240" cy="5810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80880" y="990720"/>
            <a:ext cx="7848720" cy="4730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304920" y="1676520"/>
            <a:ext cx="8534160" cy="13348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rcRect l="3419" t="0" r="0" b="65696"/>
          <a:stretch/>
        </p:blipFill>
        <p:spPr>
          <a:xfrm>
            <a:off x="228600" y="4038480"/>
            <a:ext cx="8610480" cy="762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838240" cy="581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rcRect l="3419" t="68624" r="0" b="-2911"/>
          <a:stretch/>
        </p:blipFill>
        <p:spPr>
          <a:xfrm>
            <a:off x="304920" y="4191120"/>
            <a:ext cx="8610480" cy="7617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380880" y="990720"/>
            <a:ext cx="7848720" cy="4730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228600" y="1600200"/>
            <a:ext cx="8534520" cy="13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2838600" cy="5810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124080" y="380880"/>
            <a:ext cx="5886720" cy="352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33280" y="803160"/>
            <a:ext cx="8682120" cy="60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2838600" cy="5810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809880" y="152280"/>
            <a:ext cx="3276720" cy="9702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57200" y="838080"/>
            <a:ext cx="4952880" cy="916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4343400" y="3327480"/>
            <a:ext cx="3962520" cy="345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380880" y="1676520"/>
            <a:ext cx="2562480" cy="4954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200400" y="2833560"/>
            <a:ext cx="2743200" cy="3338640"/>
            <a:chOff x="3200400" y="2833560"/>
            <a:chExt cx="2743200" cy="333864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3200400" y="2833560"/>
              <a:ext cx="2743200" cy="218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2"/>
            <a:stretch/>
          </p:blipFill>
          <p:spPr>
            <a:xfrm>
              <a:off x="3505320" y="5181480"/>
              <a:ext cx="1828800" cy="990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838600" cy="581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152280" y="890640"/>
            <a:ext cx="8839440" cy="4809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838080" y="1371600"/>
            <a:ext cx="7010640" cy="104940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228600" y="2971800"/>
            <a:ext cx="2847960" cy="3033720"/>
            <a:chOff x="228600" y="2971800"/>
            <a:chExt cx="2847960" cy="3033720"/>
          </a:xfrm>
        </p:grpSpPr>
        <p:pic>
          <p:nvPicPr>
            <p:cNvPr id="57" name="" descr=""/>
            <p:cNvPicPr/>
            <p:nvPr/>
          </p:nvPicPr>
          <p:blipFill>
            <a:blip r:embed="rId6"/>
            <a:stretch/>
          </p:blipFill>
          <p:spPr>
            <a:xfrm>
              <a:off x="228600" y="2971800"/>
              <a:ext cx="2847960" cy="199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" descr=""/>
            <p:cNvPicPr/>
            <p:nvPr/>
          </p:nvPicPr>
          <p:blipFill>
            <a:blip r:embed="rId7"/>
            <a:stretch/>
          </p:blipFill>
          <p:spPr>
            <a:xfrm>
              <a:off x="914400" y="5181480"/>
              <a:ext cx="1143000" cy="824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" name=""/>
          <p:cNvGrpSpPr/>
          <p:nvPr/>
        </p:nvGrpSpPr>
        <p:grpSpPr>
          <a:xfrm>
            <a:off x="5715000" y="2593800"/>
            <a:ext cx="3048120" cy="3683160"/>
            <a:chOff x="5715000" y="2593800"/>
            <a:chExt cx="3048120" cy="3683160"/>
          </a:xfrm>
        </p:grpSpPr>
        <p:pic>
          <p:nvPicPr>
            <p:cNvPr id="60" name="" descr=""/>
            <p:cNvPicPr/>
            <p:nvPr/>
          </p:nvPicPr>
          <p:blipFill>
            <a:blip r:embed="rId8"/>
            <a:stretch/>
          </p:blipFill>
          <p:spPr>
            <a:xfrm>
              <a:off x="5715000" y="2593800"/>
              <a:ext cx="3048120" cy="239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9"/>
            <a:stretch/>
          </p:blipFill>
          <p:spPr>
            <a:xfrm>
              <a:off x="6248520" y="5334120"/>
              <a:ext cx="2361960" cy="942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2" name="" descr=""/>
          <p:cNvPicPr/>
          <p:nvPr/>
        </p:nvPicPr>
        <p:blipFill>
          <a:blip r:embed="rId10"/>
          <a:srcRect l="8241" t="0" r="3429" b="0"/>
          <a:stretch/>
        </p:blipFill>
        <p:spPr>
          <a:xfrm>
            <a:off x="1752480" y="2523960"/>
            <a:ext cx="1632240" cy="981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1"/>
          <a:stretch/>
        </p:blipFill>
        <p:spPr>
          <a:xfrm>
            <a:off x="5181480" y="2743200"/>
            <a:ext cx="8287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715240" cy="1876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62120" y="2209680"/>
            <a:ext cx="3560760" cy="46483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5257800" y="2343240"/>
            <a:ext cx="3038400" cy="44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715240" cy="1876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076400" y="2276640"/>
            <a:ext cx="2504880" cy="4581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4800600" y="2257560"/>
            <a:ext cx="2705040" cy="45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209680" y="1295280"/>
            <a:ext cx="4624560" cy="43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133720" y="1447920"/>
            <a:ext cx="4724280" cy="916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OBJECTIVE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99880" y="3200400"/>
            <a:ext cx="85442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38080" y="1643040"/>
            <a:ext cx="2210040" cy="6224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228600" y="2438280"/>
            <a:ext cx="8724960" cy="2276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9T22:05:12Z</dcterms:created>
  <dc:creator>Harry S. Mills</dc:creator>
  <dc:description/>
  <dc:language>en-US</dc:language>
  <cp:lastModifiedBy>Harry S. Mills</cp:lastModifiedBy>
  <dcterms:modified xsi:type="dcterms:W3CDTF">2008-01-01T03:28:00Z</dcterms:modified>
  <cp:revision>2</cp:revision>
  <dc:subject/>
  <dc:title>Slide 1</dc:title>
</cp:coreProperties>
</file>